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88D5-1F7B-4E1A-9727-0A6081AB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C63F-6E96-43B9-A1C0-39EFB099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89D2-EE8C-4621-896B-531D4051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90E8-C8DE-4C55-B3B5-5E0BEEB0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6AEA-77AD-4768-A5A2-BE97A56A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2111-C40A-48BB-B87D-4BFB96D1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86A3-032D-4DA5-A936-C3F8BB50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A857-14BF-4BA7-9C8E-4FA550AB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772C-5FED-4D78-B079-D37FC564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FDE8-56A8-4849-A02E-35B991A0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84CD-4D5B-41F9-A13A-D8B0EE68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E78B-2F82-406E-81FC-494659CD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A54B-3B95-457F-AAB0-0B9BB5B75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228600"/>
            <a:ext cx="7086600" cy="6324480"/>
          </a:xfrm>
          <a:prstGeom prst="flowChartConnector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3400" y="-6095880"/>
            <a:ext cx="0" cy="12648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7467480" y="3429000"/>
            <a:ext cx="16611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914400" y="0"/>
            <a:ext cx="6858000" cy="6858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914400" y="0"/>
            <a:ext cx="6781680" cy="678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0" y="1219320"/>
            <a:ext cx="9677520" cy="3975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2895480" y="0"/>
            <a:ext cx="2895840" cy="6858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0" y="1709640"/>
            <a:ext cx="9144000" cy="3619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955960" y="0"/>
            <a:ext cx="2774880" cy="6858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4200">
            <a:off x="5257440" y="3580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mots init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20733600">
            <a:off x="5867640" y="2666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pan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9382400">
            <a:off x="5105880" y="1752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rase-mo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8110400">
            <a:off x="4306320" y="11804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 mots- val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3207000">
            <a:off x="4608720" y="5218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e-has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790400">
            <a:off x="5333400" y="45716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ma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1434200">
            <a:off x="685440" y="2740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haî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0213200">
            <a:off x="380520" y="3807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st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9382400">
            <a:off x="5105880" y="1752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rase-mo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7405800">
            <a:off x="2128680" y="502884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rase-mo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4247000">
            <a:off x="2267640" y="12348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ma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8815800">
            <a:off x="1065960" y="4569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yram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2643200">
            <a:off x="1143360" y="2054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mot le plu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6177600">
            <a:off x="2683080" y="50076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mot le plu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5710400">
            <a:off x="2820600" y="1141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crois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4875600">
            <a:off x="3643920" y="511452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crois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550400">
            <a:off x="3430440" y="1216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noms prop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38088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484280" cy="1719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315200" y="4876920"/>
            <a:ext cx="1298520" cy="1600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28600" y="4800600"/>
            <a:ext cx="1633680" cy="1733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12556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21:46:40Z</dcterms:created>
  <dc:creator>Marianne NEY</dc:creator>
  <dc:description/>
  <dc:language>en-US</dc:language>
  <cp:lastModifiedBy>Marianne NEY</cp:lastModifiedBy>
  <cp:lastPrinted>2002-01-04T16:53:17Z</cp:lastPrinted>
  <dcterms:modified xsi:type="dcterms:W3CDTF">2002-01-04T17:04:43Z</dcterms:modified>
  <cp:revision>7</cp:revision>
  <dc:subject/>
  <dc:title>Aucun titre de diapositive</dc:title>
</cp:coreProperties>
</file>